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144-7EBE-475E-BD9E-506F72B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6A7-86E5-4D77-BE94-B67CBF99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084-EB9C-4293-8463-467C4881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E34-F888-4CCC-B500-1EA02FA4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7B4-98E9-4C18-AE0E-01BA4D36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29D-6561-4512-B662-B5617E63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2DD-1F29-4BAF-BC6D-0B6AF1F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7A2-4927-4AA2-BB48-F2F5989E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A10-9FB1-4299-989F-45E28EDD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BA8-7108-4E10-BD86-CBEEE0D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3AC-FAFD-4FD2-BAAA-FE6664A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6D5-D82E-4C01-9CC5-0BF4DDC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C0E2-3FAB-4CEF-8F56-C1C3F59C96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09800" y="5084640"/>
            <a:ext cx="41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los Hernando ARTEAGA DU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TÉ DE LIÈGE – AB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6912000" cy="217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79640" y="1125360"/>
            <a:ext cx="5256360" cy="394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00360" y="836640"/>
            <a:ext cx="3699000" cy="424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0920" y="119700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84360" y="1628640"/>
            <a:ext cx="7993080" cy="253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logo del acuerdo de libre comercio EE.UU.-andino"/>
          <p:cNvPicPr/>
          <p:nvPr/>
        </p:nvPicPr>
        <p:blipFill>
          <a:blip r:embed="rId7"/>
          <a:stretch/>
        </p:blipFill>
        <p:spPr>
          <a:xfrm>
            <a:off x="3203640" y="1125360"/>
            <a:ext cx="2606760" cy="381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692280"/>
            <a:ext cx="7993080" cy="4392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2160" y="1413000"/>
            <a:ext cx="74440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CA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RATADO DE LIBRE COMERC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DINO-EEU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ESAS E INCERTID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91480" y="192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9440" y="98280"/>
            <a:ext cx="609840" cy="1247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3800" y="98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0160" y="2700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465280" y="98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28920" y="576360"/>
            <a:ext cx="561672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5313240"/>
            <a:ext cx="9180000" cy="1571760"/>
            <a:chOff x="0" y="5313240"/>
            <a:chExt cx="9180000" cy="1571760"/>
          </a:xfrm>
        </p:grpSpPr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0" y="5313240"/>
              <a:ext cx="9180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506720" y="5329080"/>
              <a:ext cx="89388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0" y="1628640"/>
            <a:ext cx="914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untos de Basicos de Negociac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lazos de Desgravacion arancela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Mecanismos  protectores temporales de sectores productivos sensib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uotas Maximas de importa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ereales /  Algod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ubsidios a la produccion (OM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teccion de la propiedad intelectual y Patentes - Medica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teccion y derechos sobre la biodivers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dentidad Cultural / Comercio cultur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6160" y="1349280"/>
            <a:ext cx="8997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construccion del T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esion de cada nacion a la iniciativa (Cumbre de la O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ndas de negociacion conj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sion del texto de acuerdo del 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cion del texto por las caramaras legislativas de cada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tificacion del 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cripcion y aplicacion del 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icio de negociaciones en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en etapas completado en un 50%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sion con Peru 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sion con Colombia en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sion con Ecuador e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89680" y="192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8000" y="98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92360" y="98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28720" y="27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463840" y="98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327480" y="576360"/>
            <a:ext cx="561636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02600" y="6108840"/>
            <a:ext cx="77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LC andino – EEUU: Tratado de Libre Comer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747800"/>
            <a:ext cx="914400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esion de EE-UU sobre los paises andinos para la suscripcion del acuer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nminente  cancelacion  del (ATPDEA)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ey Andina de Preferencias Arancelarias y Erradicación de la Drog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000 productos entran con aranceles reducidos a EE-U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Vencimiento el 31 / dic / 2006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dicionamiento de Ayudas unilaterales a la firma del TL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ctiva politica exterior dirigida a su materialisac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5313240"/>
            <a:ext cx="9178560" cy="1571760"/>
            <a:chOff x="0" y="5313240"/>
            <a:chExt cx="9178560" cy="157176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0" y="5313240"/>
              <a:ext cx="91785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505640" y="5329080"/>
              <a:ext cx="89388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124600" y="219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2920" y="125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727280" y="125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63640" y="54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498760" y="125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62400" y="603360"/>
            <a:ext cx="561636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089680" y="192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92360" y="98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28720" y="27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463840" y="98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27480" y="576360"/>
            <a:ext cx="561636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11160" y="5300640"/>
            <a:ext cx="9144000" cy="1571760"/>
            <a:chOff x="-11160" y="5300640"/>
            <a:chExt cx="9144000" cy="1571760"/>
          </a:xfrm>
        </p:grpSpPr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-11160" y="53006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466040" y="53164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113760" y="6122880"/>
            <a:ext cx="77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LC andino – EEUU: Tratado de Libre Comer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6360" y="1341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Puntos dificiles de la negociac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Productos Agricolas y Politicas de subsidios estadounidenses al ag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Patentes y Medicamentos Gene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Proteccion intelect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Proteccion al patriminio inmaterial y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Tex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Productos de “Segunda ma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ortancia del T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eficaz para garantizar el acceso de todo producto a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do mas grande  del 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ortacion mas fácil y sin barre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spera que el proceso este terminado para final de 2007, para la entrad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on del tratado de manera f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1800" y="189000"/>
            <a:ext cx="51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. Trascendencia para la region and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tencialidades – Pelig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67280" y="44280"/>
            <a:ext cx="609840" cy="1248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451640" y="44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588000" y="-2700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8223120" y="44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981000"/>
            <a:ext cx="55450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40" y="5950080"/>
            <a:ext cx="75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proberbio popular dice que cuando el Rico invita al pobre a comer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que este esta en el menu...” Yhamid Hamat Editor CM&amp;, refiriend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la invitacion de USA para el inicio de las negociaciones del TL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20520" y="1446120"/>
            <a:ext cx="9164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iminará  los aranceles  y otras  barreras a los bienes y servicios,  ampliando  el comercio entre Estados Unidos y las naciones and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Asimetria en el comercio: Gran debilidad de la capacidad productiva and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frente a la Norteamer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La aplicacion de subsidios al sobre el agro estadounidense hace inca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s-CO" sz="2000" spc="-1" strike="noStrike">
                <a:solidFill>
                  <a:srgbClr val="ff3300"/>
                </a:solidFill>
                <a:latin typeface="Arial"/>
              </a:rPr>
              <a:t>de competir a los productos agricolas and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2. Permitirá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los paises andinos vender mas de sus productos en  el  mercado mas grande del mundo, con alta capacidad de compra y de acceso a nuestros bi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1800" y="189000"/>
            <a:ext cx="51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. Trascendencia para la region and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tencialidades – Pelig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67280" y="44280"/>
            <a:ext cx="609840" cy="124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44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588000" y="-2700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223120" y="44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0920" y="981000"/>
            <a:ext cx="55450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199" name="" descr=""/>
            <p:cNvPicPr/>
            <p:nvPr/>
          </p:nvPicPr>
          <p:blipFill>
            <a:blip r:embed="rId5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52360" y="1735200"/>
            <a:ext cx="889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3. Gracias al aumento de la inversion extranjera se esperan altas tas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crecimiento economico, generandose un ingreso percápita ascen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3300"/>
                </a:solidFill>
                <a:latin typeface="Arial"/>
              </a:rPr>
              <a:t>El aumento del PIB no garantiza de que el ingreso real de la poblacion aumente. Caso de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3300"/>
                </a:solidFill>
                <a:latin typeface="Arial"/>
              </a:rPr>
              <a:t>El TLC no incluye ninguna medida directa orientada a la reduccion de la pobreza reinante en america 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-11520" y="5851440"/>
            <a:ext cx="769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acuerdo ofrecerá igualdad de oportunidades y tratamiento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e  aranceles  para  ambos  países”,  dijo el Sr.Portm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mbajador de EE-UU en Bog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800" y="189000"/>
            <a:ext cx="51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. Trascendencia para la region and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tencialidades – Pelig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867280" y="44280"/>
            <a:ext cx="609840" cy="1248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451640" y="44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588000" y="-2700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8223120" y="44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0920" y="981000"/>
            <a:ext cx="55450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640" y="1344600"/>
            <a:ext cx="9029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l TLC puede incrementar la eficiencia económica si la creación del comercio su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la posible desviación de comer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El aumento de la productividad es obligatorio en los segmentos no exportadore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economia andin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Posible desaparicion de sectores ante altos niveles de productividad norte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Los plazos acordados para la supresion de aranceles en algunos segmentos fragi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es suficiente para logar su modernisacion y competencia equita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El tratado no incluye programas concretos de aumento de productividad en los pa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and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3300"/>
                </a:solidFill>
                <a:latin typeface="Arial"/>
              </a:rPr>
              <a:t>esto depende de cada gobierno, limitado por presupuestos estr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5286240"/>
            <a:ext cx="9180000" cy="1571760"/>
            <a:chOff x="0" y="5286240"/>
            <a:chExt cx="9180000" cy="15717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80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506720" y="5302080"/>
              <a:ext cx="89388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520" y="189000"/>
            <a:ext cx="51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. Trascendencia para la region and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tencialidades – Pelig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904000" y="44280"/>
            <a:ext cx="609480" cy="1248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488360" y="44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624720" y="-27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8259840" y="44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87280" y="981000"/>
            <a:ext cx="55450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122560"/>
            <a:ext cx="860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5. Proporcionará   un   marco  legal  seguro  y   predecible    para  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versionistas estadounid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mento de la inversion extranjera de manera perd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6. P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oporcionará una  aplicación  efectiva  de la  legislación  laboral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mbi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4920" y="5313240"/>
            <a:ext cx="9144000" cy="1571760"/>
            <a:chOff x="34920" y="5313240"/>
            <a:chExt cx="9144000" cy="157176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34920" y="5313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512120" y="5329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16720" y="216000"/>
            <a:ext cx="51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. Trascendencia para la region and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tencialidades – Pelig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902200" y="71280"/>
            <a:ext cx="609840" cy="1247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486560" y="71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622920" y="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8258040" y="71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85840" y="1008000"/>
            <a:ext cx="55450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0" y="1522440"/>
            <a:ext cx="9137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neficia a la Nación,  a  los empresarios y  a  los habitantes  del país que lo  reali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que permite abrir las fronteras comerciales, obtener una nueva fuente de recur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abaratar los costos de los productos y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8. Se  protegerá  la  propiedad  intelectual, y  proporcionará  un sistema efectivo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olución de conflic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3300"/>
                </a:solidFill>
                <a:latin typeface="Arial"/>
              </a:rPr>
              <a:t>Bajo el pretexto de proteccion de la propiedad intelectual se podria dar un golpe m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3300"/>
                </a:solidFill>
                <a:latin typeface="Arial"/>
              </a:rPr>
              <a:t>a los sistemas de salud de los paises andinos, ya que los medicamentos gene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3300"/>
                </a:solidFill>
                <a:latin typeface="Arial"/>
              </a:rPr>
              <a:t>estarian en pelig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3300"/>
                </a:solidFill>
                <a:latin typeface="Arial"/>
              </a:rPr>
              <a:t>En colombia hay cobertura en salud del 70% de la poblacion, con casi todos los med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3300"/>
                </a:solidFill>
                <a:latin typeface="Arial"/>
              </a:rPr>
              <a:t>mentos  y  procedimientos  casi   gratuitos. Si  el precio  de  las  medicinas aumenta, 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3300"/>
                </a:solidFill>
                <a:latin typeface="Arial"/>
              </a:rPr>
              <a:t>cobertura no podria ser mantenida gratuitamente nisiquera al 4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4920" y="5313240"/>
            <a:ext cx="9144000" cy="1571760"/>
            <a:chOff x="34920" y="5313240"/>
            <a:chExt cx="9144000" cy="15717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34920" y="5313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512120" y="5329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-370080" y="1374840"/>
            <a:ext cx="10008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enerará oportunidades de exportación para la agricultura, la industria y los serv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stadounidenses, y ayudará a crear empleo en Estados Un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2.  Contribuirá  a  los  esfuerzos  por  combatir  el  narcoterrorismo  que  amenaza 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emocracia  y  la estabilidad reg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3. Sera facil para los productos y servicios norteamericanos penetrar el mercado an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racias a sus altos niveles de productividad y todas sus ventajas copar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El intercambio comercial total con Colombia, Perú y Ecuador fue de aproximada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S $24.000 millones en 2004. Importante mercado para productos estadounid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Las principales exportaciones incluyeron maquinaria, químicos orgánicos, plástic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ereale, trigo, granos, algodón y soya. Grandes expectativas en el sector automo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. Los bienes importados desde Colombia, Perú y Ecuador sumaron US $15.300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2004. 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DIFERENCIA US $ 8700 deseo de invertir la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520" y="260280"/>
            <a:ext cx="498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4. Importacia para los Estados Un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siones - Anteced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508720" y="115920"/>
            <a:ext cx="3635280" cy="1009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V="1">
            <a:off x="181080" y="1052280"/>
            <a:ext cx="5688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97800" y="1778040"/>
            <a:ext cx="361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6520" y="2666880"/>
            <a:ext cx="51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. Trascendencia para la region and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tencialidades - Peli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00" y="4035600"/>
            <a:ext cx="498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4. Importacia para los Estados Un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siones - Anteced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5800" y="770040"/>
            <a:ext cx="23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. Region And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05640" y="260280"/>
            <a:ext cx="131436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22920" y="1916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07280" y="1916280"/>
            <a:ext cx="72072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443640" y="184464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8078760" y="1916280"/>
            <a:ext cx="812880" cy="122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796000" y="3922560"/>
            <a:ext cx="3160800" cy="874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6983280" cy="73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349360"/>
            <a:ext cx="511164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8360" y="5013000"/>
            <a:ext cx="849636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5280" y="3570840"/>
            <a:ext cx="8497800" cy="73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402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05760" y="16344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gion A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60" y="2193840"/>
            <a:ext cx="892836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rupo de paises unidos por la Cordillera de Los Andes y Venezue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Venezuela, Colombia, Ecuador, Peru y Bolivia, en el ultimo descenio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conomias Fortalecidas  (VEN/CO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nestabilidad Politica (ECU/PER/BOL/V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duccion de problemas de seguridad (PER/COL)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ndero Luminoso – FARC – ELN – M19 – Paramilitare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622440"/>
            <a:ext cx="5616720" cy="142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34920" y="5286240"/>
            <a:ext cx="9144000" cy="1571760"/>
            <a:chOff x="34920" y="5286240"/>
            <a:chExt cx="9144000" cy="1571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3492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51212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920" y="-100080"/>
            <a:ext cx="9144000" cy="402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340680" y="16344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gion A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66920" y="622440"/>
            <a:ext cx="5616720" cy="142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349360"/>
            <a:ext cx="84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cto Andino del Comercio / libre transito de person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arizacion politica general (Chavez/Uribe/Toledo/Evo Mor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GMENTACION reciente de las relaciones del Bl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080" y="4076640"/>
            <a:ext cx="7451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itica  exterior  de  Estados  Unid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dida o aumento de su infl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ontecimientos democra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uerra contra el terro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cion de ayuda econo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5286240"/>
            <a:ext cx="9144000" cy="1571760"/>
            <a:chOff x="0" y="5286240"/>
            <a:chExt cx="9144000" cy="1571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5286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477200" y="5302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760" y="5877000"/>
            <a:ext cx="76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UERDO DE LIBRE COMERCIO DE LA AME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339920"/>
            <a:ext cx="87854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ca la integracion economica en un mercado com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rcara 34  democracias  del   continente  america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te Americ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oameric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r  Americ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ona   del  Cari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resion de aranceles y libre  paso  de  productos y serv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de Negociacion Alternativo al del TLC entre las naciones americ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FTA (North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American Free Trade Agreement)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USA CAN 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 Andino de nacion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VEN COL ECU PER 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oSu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ARG CHI URU PAR 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LC Centroamericano CAFTA / Bloque del Car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10200" y="165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8520" y="71280"/>
            <a:ext cx="609840" cy="1247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12880" y="71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49240" y="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484360" y="71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549360"/>
            <a:ext cx="561672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5313240"/>
            <a:ext cx="9180000" cy="1571760"/>
            <a:chOff x="0" y="5313240"/>
            <a:chExt cx="9180000" cy="1571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0" y="5313240"/>
              <a:ext cx="9180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06720" y="5329080"/>
              <a:ext cx="89388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46920" y="192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5240" y="98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49600" y="98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85960" y="27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521080" y="98280"/>
            <a:ext cx="812520" cy="12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84720" y="576360"/>
            <a:ext cx="561636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080" y="1700280"/>
            <a:ext cx="87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Establecimiento  de  TLC  entre  bloques  de  paises  como  herramienta  d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on del AL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Exclusion de Estados Unidos de los TLC Latino Americanos, excepto en el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EXICO y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Iniciativa del Gobierno de EE-UU Cumbre de la O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on de  Estados Americanos – Miami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4920" y="5300640"/>
            <a:ext cx="9144000" cy="1571760"/>
            <a:chOff x="34920" y="5300640"/>
            <a:chExt cx="9144000" cy="15717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34920" y="53006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12120" y="53164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146920" y="192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5240" y="98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49600" y="98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85960" y="27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521080" y="98280"/>
            <a:ext cx="81252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84720" y="576360"/>
            <a:ext cx="561636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42120" y="6108840"/>
            <a:ext cx="77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LC andino – EEUU: Tratado de Libre Comer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00" y="1488960"/>
            <a:ext cx="789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LC  : Acuerdo por el cual dos o más países normatiz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e intercambio de  produc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ntercambio de servicios e inversio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 : integrar sus mercados al corto o al mediano plaz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iminacion de barreras comerciales e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an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quisitos San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s Aduan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romiso de ajustar su legislacion con los puntos acor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9160" y="836640"/>
            <a:ext cx="77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155736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n de las rondas de negociaciones por grup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E-UU 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E-UU Per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E-UU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livia pais obser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TLC puede incluir acuerdos sobre el transito de personas (despla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re), en el caso del TLC con EE-UU no existe esta posi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sado sobre el tratado de libre comercio ya existente entre los paises And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5313240"/>
            <a:ext cx="9178560" cy="1571760"/>
            <a:chOff x="0" y="5313240"/>
            <a:chExt cx="9178560" cy="15717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5313240"/>
              <a:ext cx="91785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05640" y="5329080"/>
              <a:ext cx="89388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132520" y="2048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3440" y="111240"/>
            <a:ext cx="61128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46360" y="111240"/>
            <a:ext cx="723960" cy="123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882720" y="39600"/>
            <a:ext cx="795240" cy="13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517840" y="111240"/>
            <a:ext cx="815760" cy="122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62400" y="588960"/>
            <a:ext cx="563868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89680" y="19224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Que es el ALCA y el T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609480" cy="124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92360" y="98280"/>
            <a:ext cx="720720" cy="1238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28720" y="27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463840" y="98280"/>
            <a:ext cx="812880" cy="122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27480" y="576360"/>
            <a:ext cx="561636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4920" y="5313240"/>
            <a:ext cx="9144000" cy="1571760"/>
            <a:chOff x="34920" y="5313240"/>
            <a:chExt cx="9144000" cy="157176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4920" y="5313240"/>
              <a:ext cx="914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12120" y="5329080"/>
              <a:ext cx="890640" cy="214560"/>
            </a:xfrm>
            <a:custGeom>
              <a:avLst/>
              <a:gdLst/>
              <a:ahLst/>
              <a:rect l="l" t="t" r="r" b="b"/>
              <a:pathLst>
                <a:path w="561" h="130">
                  <a:moveTo>
                    <a:pt x="28" y="124"/>
                  </a:moveTo>
                  <a:cubicBezTo>
                    <a:pt x="107" y="123"/>
                    <a:pt x="188" y="106"/>
                    <a:pt x="266" y="122"/>
                  </a:cubicBezTo>
                  <a:cubicBezTo>
                    <a:pt x="285" y="121"/>
                    <a:pt x="304" y="123"/>
                    <a:pt x="322" y="120"/>
                  </a:cubicBezTo>
                  <a:cubicBezTo>
                    <a:pt x="327" y="119"/>
                    <a:pt x="334" y="112"/>
                    <a:pt x="334" y="112"/>
                  </a:cubicBezTo>
                  <a:cubicBezTo>
                    <a:pt x="339" y="105"/>
                    <a:pt x="346" y="97"/>
                    <a:pt x="354" y="94"/>
                  </a:cubicBezTo>
                  <a:cubicBezTo>
                    <a:pt x="362" y="82"/>
                    <a:pt x="371" y="73"/>
                    <a:pt x="386" y="70"/>
                  </a:cubicBezTo>
                  <a:cubicBezTo>
                    <a:pt x="393" y="68"/>
                    <a:pt x="406" y="66"/>
                    <a:pt x="406" y="66"/>
                  </a:cubicBezTo>
                  <a:cubicBezTo>
                    <a:pt x="411" y="52"/>
                    <a:pt x="420" y="55"/>
                    <a:pt x="434" y="54"/>
                  </a:cubicBezTo>
                  <a:cubicBezTo>
                    <a:pt x="478" y="39"/>
                    <a:pt x="504" y="36"/>
                    <a:pt x="554" y="34"/>
                  </a:cubicBezTo>
                  <a:cubicBezTo>
                    <a:pt x="561" y="24"/>
                    <a:pt x="556" y="15"/>
                    <a:pt x="544" y="12"/>
                  </a:cubicBezTo>
                  <a:cubicBezTo>
                    <a:pt x="520" y="7"/>
                    <a:pt x="496" y="8"/>
                    <a:pt x="472" y="2"/>
                  </a:cubicBezTo>
                  <a:cubicBezTo>
                    <a:pt x="431" y="3"/>
                    <a:pt x="389" y="0"/>
                    <a:pt x="348" y="8"/>
                  </a:cubicBezTo>
                  <a:cubicBezTo>
                    <a:pt x="339" y="14"/>
                    <a:pt x="330" y="14"/>
                    <a:pt x="320" y="16"/>
                  </a:cubicBezTo>
                  <a:cubicBezTo>
                    <a:pt x="310" y="23"/>
                    <a:pt x="299" y="23"/>
                    <a:pt x="288" y="26"/>
                  </a:cubicBezTo>
                  <a:cubicBezTo>
                    <a:pt x="282" y="28"/>
                    <a:pt x="270" y="32"/>
                    <a:pt x="270" y="32"/>
                  </a:cubicBezTo>
                  <a:cubicBezTo>
                    <a:pt x="260" y="42"/>
                    <a:pt x="250" y="42"/>
                    <a:pt x="236" y="44"/>
                  </a:cubicBezTo>
                  <a:cubicBezTo>
                    <a:pt x="208" y="63"/>
                    <a:pt x="140" y="77"/>
                    <a:pt x="106" y="80"/>
                  </a:cubicBezTo>
                  <a:cubicBezTo>
                    <a:pt x="78" y="89"/>
                    <a:pt x="60" y="94"/>
                    <a:pt x="30" y="96"/>
                  </a:cubicBezTo>
                  <a:cubicBezTo>
                    <a:pt x="22" y="98"/>
                    <a:pt x="0" y="98"/>
                    <a:pt x="16" y="116"/>
                  </a:cubicBezTo>
                  <a:cubicBezTo>
                    <a:pt x="28" y="130"/>
                    <a:pt x="33" y="108"/>
                    <a:pt x="28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-111960" y="6108840"/>
            <a:ext cx="77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LC andino – EEUU: Tratado de Libre Comer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16398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egociacion  simultanea  del  TLC entre EE-UU y  cada  uno  de  los   paises andino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ondas de negociacion simultane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iferentes acuerdos alcansados en cada caso (normativas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pende de la estructura productiva de cada p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egociacion en proceso bajo el esquema “producto por producto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quipos de negociacion de cada Gobierno defienden intereses nacionales y linealmientos concertados entre el gobierno y sectores industriales                      y social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20:33:35Z</dcterms:created>
  <dc:creator>Frank Schoofs</dc:creator>
  <dc:description/>
  <dc:language>en-US</dc:language>
  <cp:lastModifiedBy>Frank Schoofs</cp:lastModifiedBy>
  <dcterms:modified xsi:type="dcterms:W3CDTF">2006-04-17T21:59:02Z</dcterms:modified>
  <cp:revision>17</cp:revision>
  <dc:subject/>
  <dc:title>Dia 1</dc:title>
</cp:coreProperties>
</file>